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766-0E65-4112-A0DE-705BD14A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EA4-D14F-4382-A06E-E5A8E7D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E7A-E8D4-4A48-9636-02B8120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2FA-CA30-4667-A90E-8F71F07F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831-D751-4D88-AE87-310DD68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DB9-75BA-41E1-B3BF-9E1ACA4C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524-9564-4E44-9904-77832C91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C1D-11C7-46C1-A11B-D85ADBA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89F-4239-4EE4-8187-C1940293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D98-EF55-4FDE-8316-72FA696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03E-9939-4BDE-9ECE-D6E8A0D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688-AEC8-45C2-95E5-EDA7E5A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250-ECF6-441F-AB8E-4F71A98DDF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76280"/>
            <a:ext cx="187164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04640"/>
            <a:ext cx="2160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83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788000" y="90792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1125360"/>
            <a:ext cx="1224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476280"/>
            <a:ext cx="1871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10817400">
            <a:off x="6084000" y="1124640"/>
            <a:ext cx="223236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 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12536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1700280"/>
            <a:ext cx="3024000" cy="1297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ieri a 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85264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141720"/>
            <a:ext cx="129708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587640" y="4724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58136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5516640"/>
            <a:ext cx="1439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5445000"/>
            <a:ext cx="158436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1773360"/>
            <a:ext cx="259236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4076640"/>
            <a:ext cx="2592360" cy="151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71640" y="393336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645000"/>
            <a:ext cx="165564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4221000"/>
            <a:ext cx="172728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021360"/>
            <a:ext cx="1512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80000" y="4292640"/>
            <a:ext cx="57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516640"/>
            <a:ext cx="8636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858920" y="4292640"/>
            <a:ext cx="14436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6308640"/>
            <a:ext cx="144144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15Z</dcterms:created>
  <dc:creator>studente</dc:creator>
  <dc:description/>
  <dc:language>en-US</dc:language>
  <cp:lastModifiedBy>studente</cp:lastModifiedBy>
  <dcterms:modified xsi:type="dcterms:W3CDTF">2016-12-05T10:37:29Z</dcterms:modified>
  <cp:revision>2</cp:revision>
  <dc:subject/>
  <dc:title>Diapositiva 1</dc:title>
</cp:coreProperties>
</file>